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41B-DE20-421E-BC87-05208D26B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AF87-0E75-4F29-A4AB-F879DB88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118A-EB2C-48ED-9E0D-CC7FBC4D5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C24-3CA6-4602-B88F-98716674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6CF6-DB47-4809-923E-5BB2C091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F19A0-F3D7-45F1-A802-0098E263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F739E-720C-4EE7-BB41-13E574408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3893-EFE3-414B-92D8-C5302F9E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55962-2424-4FDE-B238-C0C25A35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C582-0936-47ED-A4CF-22BAEA6D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D48B-87DA-4BE1-8FD2-1C9812C5E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FA2A-9C64-41C4-A2D2-8F0B8829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1982A-7747-41B7-9434-26664F72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D2661-FA89-4884-8D5C-4DACD7DF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00C8-E35C-412E-A1D7-7183BB5C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5516-7450-443E-AC18-F6D07B6E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2F9D-EB92-48D9-AE83-E41E21492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6985-9637-4EA8-8F35-966BAF0B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9C67-A7D0-4F42-8B4D-C229C70C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17C4-6084-4D93-A2C4-C55344E15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33D-8584-49F2-97B3-5895648A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FD9D-0296-4915-9D6C-16948A15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F870-AA31-4FC6-952B-09F846FD0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43DC-FEF9-4A83-A667-640A2D3D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8CBE9-FC62-488D-AC10-70437A094B1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D8E3-5CA3-45B0-998E-E8FE4C9FA77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     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La  saveur de la vie dans    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	</a:t>
            </a:r>
            <a:r>
              <a:rPr b="0" lang="en-US" sz="4000" spc="-1" strike="noStrike">
                <a:solidFill>
                  <a:srgbClr val="cccc66"/>
                </a:solidFill>
                <a:latin typeface="Cooper Black"/>
              </a:rPr>
              <a:t>    l’assiette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49636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Aujourdui je parle avec mon amie française. On correspondons sur l’interne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Magali et moi. Elle a quinze ans,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le même âge que moi.  Elle est en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quatriè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classe.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En France, les classes du lycée commencent de cinq à un. Et  comm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d’habitude elle m’invite chez elle. Oh! France, Paris, Marseille, mais que pouvai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je faire? faute d’argent et de temps … J’ai refusé poliment l’invitation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Cet été, Magali est  invité avec sa famille chez nous. Son parents sont tr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gentils. La mère, Roxanne, est roumaine elle est la meillleure amie de ma mèr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Le père, Daniel, est français, né prés  de Marseille, mais il a vécu à Paris. Là, il 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enseigné la physique et la chemie au lycée Henric IV. Ils se sont mariée depui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dix-sept ans. Ils se sont connu à Paris sur un bateau-mouche, lors d’un festiva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de musique. Tous les deux aiment beaucoup de la musique française. Qui n’a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pas la musique de Joe Dassin , Edith Piaf, Nana Moskouri?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Ils vont arriver en Roumanie au mois d’août 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Parce que ils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vivent dans le Midi , ils aiment biensûr la cuisine provencale: l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bouillabaisse, les fruits de mér acompagnes de l’aïole, leRagoût de legumes. A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sud s’appelle ratatouille.  Mais maman a pensé de preparer un plat traditionne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roumain, une spécialite pour eux: feuilles de chou farçies à la viende hachée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avec la polenta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-171360"/>
            <a:ext cx="822960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Il ne faut pas oublier le potage de veau avec du borchs. On va servir aprè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un rôti d’agneau avec de la salade e du piurée. Comme gâteau, maman va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preparer des brioches aux raisins secs et noix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Mais comme vous l’avez devinè, mon amis, j’ai fait cette court et original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introduction parce que j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’aime beaucoup les brioches de maman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Cooper Black"/>
              </a:rPr>
              <a:t>et je veux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vou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onne sa recette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Pour les brioches on avait besoin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 la farin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u lait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u beur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u suc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s oeuf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 la levur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666600"/>
              </a:buClr>
              <a:buSzPct val="75000"/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des raisins secs et de noix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On melange un peu de farine, un peu de lait, et la levure. On laisse à se lever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Ensuite, on melange bien tous les ingredients.  On etend la pâte, on y met l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raisins secs et la noix, on roule et on met dans la forme. Après une heurre on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Met la  pâte dans le four pour quarante cinq minut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Cooper Black"/>
              </a:rPr>
              <a:t>Bon apeti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148360" y="1484280"/>
            <a:ext cx="33829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09:05:07Z</dcterms:created>
  <dc:creator>Dan</dc:creator>
  <dc:description/>
  <dc:language>en-US</dc:language>
  <cp:lastModifiedBy>Dan</cp:lastModifiedBy>
  <dcterms:modified xsi:type="dcterms:W3CDTF">2012-05-07T20:26:35Z</dcterms:modified>
  <cp:revision>9</cp:revision>
  <dc:subject/>
  <dc:title>     La  saveur de la vie dans           l’assiette</dc:title>
</cp:coreProperties>
</file>